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F996B8-E04A-46DE-BC18-CAEDFA97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F553D0-7D5F-44B8-8C45-992CBCC05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5ABA2A-6444-46D9-B02A-D23F460B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AF3AC-41D3-4A94-BC78-0D3F10474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D3971-7F0A-470C-B637-B69B3F77F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F98990-A944-4F2D-83CC-F5C5DEA27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7034D7-F730-4DBD-99A9-FBB78805A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597C7-8638-4C0B-85CC-E0C268EB3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EC090-CC6B-4EC0-87EB-00092FA5D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B0A8FC-EA4E-4F5F-B5A0-99E7C15F9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B1ADD0-AA27-4B89-8D73-F869F330B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2824-4DBA-41A2-ACC4-6F6161A67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D972-1E72-4909-B1D9-7DAC25F3D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52AD-E810-42F0-9C89-561BA0591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60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84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60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84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C7D0-6279-4296-A990-4B68446A22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2C214-5036-4213-946C-C0623DA686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EDD41-BFF5-48B1-AB8D-80D54523B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0EC6-153E-4040-92C5-FFC9DF5C6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2189-33E7-41B5-9FCE-D3ADF61DA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AD347-B057-4E29-BBA7-97792C5CB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40FB-ADDF-4303-9D89-5E5985688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5C662-3F8D-4388-9BA5-5F6033DFE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8148-D0B5-4124-B39A-C65528C23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160"/>
            <a:ext cx="684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EF926C2B-0760-417A-876F-793425A8F0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8B1D92B2-F7FF-4004-94FC-8C32270EF4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19810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vez déjà vu des infinitifs se terminant 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’infinitif de certains verbes français se termine par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0D2F2019-F79D-4EF5-BEBB-A3E4BB0952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533520" y="1558800"/>
            <a:ext cx="8048520" cy="484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981000" y="1762200"/>
            <a:ext cx="735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létez les phrases avec la forme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cte du présent du verb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62120" y="2743200"/>
            <a:ext cx="762156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ls __________ (attendre) l’arrivée du trai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us __________ (répondre) aux questions du professeu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e __________ (sourire) quand je suis heureus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 on __________ (construire) trop, on __________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détruire) la natur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nd il fait froid, vous __________ (mettre) un pull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-ce que les étudiants __________ (entendre) l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fesseur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77880" y="2766960"/>
            <a:ext cx="160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attend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25343B6B-358A-4837-8D85-E151225083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19350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ucoup de verbes 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m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ttend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suivent un modèle de conjugaison régul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066680" y="2849400"/>
            <a:ext cx="7237440" cy="206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1371600" y="5059440"/>
            <a:ext cx="640080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1765740B-C2A4-4453-B471-D04C4FDA23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espaces_p206"/>
          <p:cNvPicPr/>
          <p:nvPr/>
        </p:nvPicPr>
        <p:blipFill>
          <a:blip r:embed="rId2"/>
          <a:stretch/>
        </p:blipFill>
        <p:spPr>
          <a:xfrm>
            <a:off x="714240" y="2057400"/>
            <a:ext cx="7715520" cy="30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8DDDD5A5-F0FA-4590-A5FA-5CFEDF1ABA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4360" y="21304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verb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attend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inifi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wait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n français, ce verbe ne prend pas de pré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6219720" cy="7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95CCADAF-6E3B-4967-A5FC-346BE2624F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199512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former le participe passé des verbes réguliers 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ffacez l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’infinitif et ajoutez u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371600" y="3214800"/>
            <a:ext cx="6172200" cy="19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BB78ABFF-DF8A-48FC-80C1-1815785E95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4360" y="20034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Rendre visite 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visit a per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ors qu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visi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visit a 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600200" y="3070080"/>
            <a:ext cx="5791320" cy="14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A689FDA5-AA12-48BA-B68F-B2A1693366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440" y="16776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s verbes 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t irrégul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219320" y="2255760"/>
            <a:ext cx="6553080" cy="338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1371600" y="5640480"/>
            <a:ext cx="6400800" cy="7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2A42C5C3-CD86-4E5F-AE91-2FEE779F4B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1371600" y="1963800"/>
            <a:ext cx="6400800" cy="28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B.2-</a:t>
            </a:r>
            <a:fld id="{D5CBB27B-A5C7-4CFE-8A48-61E71E4B1C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949400"/>
            <a:ext cx="830592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articipe passé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ett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es verbes dérivés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met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ermet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romet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uivent le même modèle: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erm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rom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articipe passé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ond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ond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es verbes similaires suivent le même modèle: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 constr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onstr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étr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étr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rod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rod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réd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réd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tradu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trad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articipe passé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r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e participe passé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our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ou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© 2011 Vista Higher Learning. All rights reserved.</dc:creator>
  <dc:description/>
  <cp:keywords/>
  <dc:language>en-US</dc:language>
  <cp:lastModifiedBy>Viviane Grebert</cp:lastModifiedBy>
  <dcterms:modified xsi:type="dcterms:W3CDTF">2011-12-04T18:45:29Z</dcterms:modified>
  <cp:revision>33</cp:revision>
  <dc:subject>Espaces: Rendez-vous avec le monde francophone, Second Edition</dc:subject>
  <dc:title>Unité 6: Les fêtes</dc:title>
</cp:coreProperties>
</file>